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4968-273B-4D4A-BD87-1AF134ACE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B7D7-8412-43FB-BAB8-ACC1BD94C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E5BE-36CC-4701-8E24-837D580AE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827F-8DDD-44BF-A897-2014130E9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FFD4A-D4BB-4C58-AF6F-31ACC43C0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08D5B-9636-4A47-91C8-24DDF5B98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77EDC-361A-4481-9524-D3C5E79BB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44F0B-CDA3-45DD-9C23-BF46009CD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BCED6-951C-4AC1-B0D5-BF0DFC406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62985-DCD6-48CD-8283-292912C2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785AD-CC1C-4E43-8505-A62A80A5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FE99-8315-49EA-96EF-D1F9867DE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0EFD0-E76E-4C73-8A03-8FE7C55B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84534-6ED5-4343-82EB-A2F8721A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45176-568B-4EAD-8734-604E4E425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6CA9D-D89C-454A-9279-090398B34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C4818-4739-4841-BB70-3720A62C2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A2F47-D2F8-4368-B09C-526F2E987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5F1AD-6B77-4906-B63F-FD1FDAE87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25B30-31B0-4A08-B1F7-B7B5A6E59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FAE53-357F-46E6-AC26-7880701B6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DBD7B-9700-4F07-A4C1-CC696417D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F227-FA1A-4EAB-8A2C-C2C65AEA6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89546-8C6A-42D4-81FA-114EB9747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FD659-44D4-4F6B-AAEA-2C11BF7F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E41AF-5F02-43B5-AB4C-6F6380C4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29194-EE39-4118-9ECC-DA996048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C1E1E-1792-48E6-A5BC-EF907D427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0457F-10E5-4F07-B150-D5E1F99DB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64065-F78F-44A8-98AF-899308F75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29617-CB50-4F59-B20C-897232DAC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6A167-59EC-4512-B51E-F0BC0BCEE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A913A-D554-48C7-8A0D-85B6434A4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D56F-4C61-49F5-98E8-27822B9E6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C261B-E92A-4CB1-8CD0-D8C7A26EA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03C16-6A2A-42CF-8190-A018314FB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3AA84-0074-4196-98B2-51C813FB7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4AAF6-AF30-4121-8D2E-8A372BA5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76E61-86B1-45CB-B30E-31E2DF6A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62540-4FFB-4300-ADFB-E66E7C5D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C3396-8C71-413E-81B9-037A4FAFF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0F52C-E3B4-4ADA-B95E-868B57D0A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E83F8-3C36-4D78-840A-52461AA35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37E97-1F59-49E4-AC08-A0BF3A7BD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164E-C1D7-4AC7-BEB2-0FA90F968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B96B3-06AF-4DF1-85A2-79C20C253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27936-8768-4814-9D83-5BE271B45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10296-85FF-449C-AC4C-EB8B4AEB8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415E5-B664-4B2D-B282-4804B0D14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02866-98AB-41E9-B8FF-6E9133DB3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7B36E-29D9-40CD-B7E2-6FDE6E3A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F3740-30BA-4300-8F56-4B7E29EC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D3AF3-FE36-4F07-8668-66AFD2CE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A4763-FFDC-4658-87DA-1211FCA47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A92B3-3B9A-40BE-8D87-CEEB21DCD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E4D7-C8D0-43C7-96B2-F45F4FADA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2C927-7FBC-4672-904A-E4DEB8FE0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A3D9-F553-4CD9-BCB4-B2CA8BF6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DD66-4C9B-45FA-9FFE-A8B414A9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8840-D80C-46F6-B79D-1AF6641F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EDD90-D2FD-4BD0-B52F-050555E9E4F1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5AF76-C9DB-4BCB-A29E-1FE5E08D7C72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61D65-0C4B-423F-BE13-DD9C1055626B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ADFAB-3066-4B22-963C-DDC0E9535B89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lnTo>
                  <a:pt x="2260725" y="0"/>
                </a:lnTo>
                <a:arcTo wR="63880" hR="63880" stAng="-5400000" swAng="5400000"/>
                <a:lnTo>
                  <a:pt x="2324605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2580C-F712-48FD-870A-A7CB82116494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5/53/DimeNovel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8d3e"/>
                </a:solidFill>
                <a:latin typeface="Bernard MT Condensed"/>
              </a:rPr>
              <a:t>Dime Novels</a:t>
            </a:r>
            <a:endParaRPr b="1" lang="en-US" sz="5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Propaganda of the We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990720" y="4191120"/>
            <a:ext cx="66294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 1860 a publishing phenomenon appeared that would provide Americans a wealth of popular fiction in a regular series at a fixed, inexpensive price. Early dime novels, first printed in orange wrapper papers, were patriotic, often nationalistic tales of encounters between Indians and backwoods settlers. By the mid-1890s, bold color covers depicting scenes of bloodshed and courage appealed to a mostly adolescent audience.”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loc.gov/exhibits/treasures/tri015.htm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2" descr="http://images.google.com/url?source=imgres&amp;ct=tbn&amp;q=http://www.cometoevergreen.com/wp-content/uploads/2008/07/buffalobillwildwest-lrg.jpg&amp;usg=AFQjCNEPjHQ0S5Xlo0_V2vH0RZOJyRXKfg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6840" y="1600200"/>
            <a:ext cx="3429000" cy="4525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Buffalo Bill's Best Shot, no. 3, 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December 29, 1897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0" name="Picture 2" descr="http://www.loc.gov/exhibits/treasures/images/at0190_6s.jpg"/>
          <p:cNvPicPr/>
          <p:nvPr/>
        </p:nvPicPr>
        <p:blipFill>
          <a:blip r:embed="rId1"/>
          <a:stretch/>
        </p:blipFill>
        <p:spPr>
          <a:xfrm>
            <a:off x="4343400" y="0"/>
            <a:ext cx="480060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IGNMEN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this PowerPoint, you will find the covers of eight “dime novels” from the late 1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entury, all of which presented a largely fictional version of the West to an audience of Easterners (mostly young readers)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low the title of each dime novel, you will write a brief description of what you think the story is about.  Write as if you are trying to convince readers that this story is an exciting, “true-life” adventu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ce you are done, click “Save As” and save this PPT under the following nam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90000"/>
              </a:lnSpc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ime Novels.YOUR LAST NAME”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en save the file in your digital drop box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lnSpc>
                <a:spcPct val="90000"/>
              </a:lnSpc>
              <a:spcBef>
                <a:spcPts val="224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on the “start” menu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lnSpc>
                <a:spcPct val="90000"/>
              </a:lnSpc>
              <a:spcBef>
                <a:spcPts val="224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on “My Computer.”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lnSpc>
                <a:spcPct val="90000"/>
              </a:lnSpc>
              <a:spcBef>
                <a:spcPts val="224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en you see “drop boxes,” open yours and drag the file into the drop box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2" descr="http://www.library.pitt.edu/libraries/is/enroom/images/diamond_dick2.jpg"/>
          <p:cNvPicPr/>
          <p:nvPr/>
        </p:nvPicPr>
        <p:blipFill>
          <a:blip r:embed="rId1"/>
          <a:stretch/>
        </p:blipFill>
        <p:spPr>
          <a:xfrm>
            <a:off x="7543800" y="4740120"/>
            <a:ext cx="1600200" cy="21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6840" y="1600200"/>
            <a:ext cx="2971800" cy="4525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 issue of Beadle's Dime Novels, published in 186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2" descr="File:DimeNove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57600" y="0"/>
            <a:ext cx="4238640" cy="66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1905120" cy="4525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Buffalo Bill's Special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ervice. No. 243.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New York: Buffalo Bill Stories,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1906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Picture 2" descr="http://www.loc.gov/exhibits/treasures/images/s190.1.jpg"/>
          <p:cNvPicPr/>
          <p:nvPr/>
        </p:nvPicPr>
        <p:blipFill>
          <a:blip r:embed="rId1"/>
          <a:stretch/>
        </p:blipFill>
        <p:spPr>
          <a:xfrm>
            <a:off x="3875040" y="304920"/>
            <a:ext cx="47926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Crack Skull Bob. No. 5.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New York: Orum &amp; Company,1872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Picture 2" descr="http://www.loc.gov/exhibits/treasures/images/vc188.1.jpg"/>
          <p:cNvPicPr/>
          <p:nvPr/>
        </p:nvPicPr>
        <p:blipFill>
          <a:blip r:embed="rId1"/>
          <a:stretch/>
        </p:blipFill>
        <p:spPr>
          <a:xfrm>
            <a:off x="4267080" y="0"/>
            <a:ext cx="469584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1905120" cy="4525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Jesse James Protector. No. 113.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New York: Jesse James Stories, 1903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8" name="Picture 2" descr="http://www.loc.gov/exhibits/treasures/images/s189.1.jpg"/>
          <p:cNvPicPr/>
          <p:nvPr/>
        </p:nvPicPr>
        <p:blipFill>
          <a:blip r:embed="rId1"/>
          <a:stretch/>
        </p:blipFill>
        <p:spPr>
          <a:xfrm>
            <a:off x="3809880" y="0"/>
            <a:ext cx="533412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1905120" cy="4525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King of the Wild West's Cattle War or Stella's Bout with the Rival Ranchers, 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Crack Skull Bob, no. 170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1" name="Picture 2" descr="http://www.loc.gov/exhibits/treasures/images/at0188as.jpg"/>
          <p:cNvPicPr/>
          <p:nvPr/>
        </p:nvPicPr>
        <p:blipFill>
          <a:blip r:embed="rId1"/>
          <a:stretch/>
        </p:blipFill>
        <p:spPr>
          <a:xfrm>
            <a:off x="4191120" y="0"/>
            <a:ext cx="4952880" cy="68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6840" y="16002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Jessie James the Outlaw, no. 2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New York: Jesse James Stories, 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December 22, 1897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Picture 2" descr="http://www.loc.gov/exhibits/treasures/images/at0189as.jpg"/>
          <p:cNvPicPr/>
          <p:nvPr/>
        </p:nvPicPr>
        <p:blipFill>
          <a:blip r:embed="rId1"/>
          <a:stretch/>
        </p:blipFill>
        <p:spPr>
          <a:xfrm>
            <a:off x="4495680" y="0"/>
            <a:ext cx="4648320" cy="68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White Wolf; or, The Mountain Den, no. 110 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New York: Robert M. Dewit Publishers, 1873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2" descr="http://www.loc.gov/exhibits/treasures/images/at0190a_1s.jpg"/>
          <p:cNvPicPr/>
          <p:nvPr/>
        </p:nvPicPr>
        <p:blipFill>
          <a:blip r:embed="rId1"/>
          <a:stretch/>
        </p:blipFill>
        <p:spPr>
          <a:xfrm>
            <a:off x="4724280" y="0"/>
            <a:ext cx="441972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22:32:45Z</dcterms:created>
  <dc:creator>Tech Dept</dc:creator>
  <dc:description/>
  <dc:language>en-US</dc:language>
  <cp:lastModifiedBy>Tech Dept</cp:lastModifiedBy>
  <dcterms:modified xsi:type="dcterms:W3CDTF">2009-12-17T11:11:14Z</dcterms:modified>
  <cp:revision>3</cp:revision>
  <dc:subject/>
  <dc:title>Dime Novels</dc:title>
</cp:coreProperties>
</file>